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9.wmf" ContentType="image/x-wmf"/>
  <Override PartName="/ppt/media/image14.wmf" ContentType="image/x-wmf"/>
  <Override PartName="/ppt/media/image3.gif" ContentType="image/gi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wmf" ContentType="image/x-wmf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9559-F7D8-4B78-B03B-758424643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A0E9-9B4E-4C9A-BE05-C0B87B72E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54DD-B78A-4814-9F06-892D9650D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FA40-0B26-47AE-85E4-1F2C9B9E0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4D44-63D6-47E8-A71A-287C2E822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E520-311E-4B46-8000-3C92201AE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CA7E-474F-479B-B9B5-B26CDC057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1583-6410-4CFF-A251-13ED9C99B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2EDC-AD5D-43D9-822F-D27C180F9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27A1-C675-40E1-98A3-4460848B8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222C-B460-43E0-95EA-E200FEFE5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A41-0B76-4373-9BCB-0E10660E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DC2-AC3B-4A5A-BA26-AEB829AD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C92E-B7AF-4043-8469-61FF03BF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B5A-583F-4B1C-BD6D-6659941F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B4F-E3CB-4053-9651-744CC0CB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B88-9167-4CFF-AA68-ED4699A7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267-D4B5-4FCD-ADD6-849FC117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250-071D-47FC-BDA6-59FCACB8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0EA-F371-45F4-BA53-914FD4BA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822-4D18-4BAE-893C-4AA1813D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410C-7A7A-428A-A023-FD299F0F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3AC-ED54-471E-B515-88C4BF9B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E088-896B-43A4-9098-ED2B5EC61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he_Psyche__Id__Ego__and_Superego_in_Freud_s_Study_of_Dreams_and_Human_Nature.asf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67080" y="609480"/>
            <a:ext cx="41911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gmund Fre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66720" y="3352680"/>
            <a:ext cx="4343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orer of the Unconsci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sigmund_freud"/>
          <p:cNvPicPr/>
          <p:nvPr/>
        </p:nvPicPr>
        <p:blipFill>
          <a:blip r:embed="rId1"/>
          <a:stretch/>
        </p:blipFill>
        <p:spPr>
          <a:xfrm>
            <a:off x="380880" y="685800"/>
            <a:ext cx="38102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your notes, explain Freud’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ceberg Theor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 your own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re your ideas with a neighb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MCj03981290000[1]"/>
          <p:cNvPicPr/>
          <p:nvPr/>
        </p:nvPicPr>
        <p:blipFill>
          <a:blip r:embed="rId1"/>
          <a:stretch/>
        </p:blipFill>
        <p:spPr>
          <a:xfrm>
            <a:off x="533520" y="3200400"/>
            <a:ext cx="1677960" cy="1812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MCj03981330000[1]"/>
          <p:cNvPicPr/>
          <p:nvPr/>
        </p:nvPicPr>
        <p:blipFill>
          <a:blip r:embed="rId2"/>
          <a:stretch/>
        </p:blipFill>
        <p:spPr>
          <a:xfrm>
            <a:off x="6781680" y="1676520"/>
            <a:ext cx="1817640" cy="173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this Freud gu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56-19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nt most of his life in Vienna, A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vered the unconscious through hypno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ely studied dreams as a window to the uncons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psychoanalysis thera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“The talking c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MCj02333750000[1]"/>
          <p:cNvPicPr/>
          <p:nvPr/>
        </p:nvPicPr>
        <p:blipFill>
          <a:blip r:embed="rId1"/>
          <a:stretch/>
        </p:blipFill>
        <p:spPr>
          <a:xfrm>
            <a:off x="6477120" y="4421160"/>
            <a:ext cx="2666880" cy="24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ud’s Main Belie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ildh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eriences determine adult person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consci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ntal processes influence everyday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uses most human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ud’s beliefs became the basis of the Psychodynamic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MMj03157690000[1]"/>
          <p:cNvPicPr/>
          <p:nvPr/>
        </p:nvPicPr>
        <p:blipFill>
          <a:blip r:embed="rId1"/>
          <a:stretch/>
        </p:blipFill>
        <p:spPr>
          <a:xfrm>
            <a:off x="6400800" y="380880"/>
            <a:ext cx="1676520" cy="15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sychodynamic 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ity theory that considers behavior to result from psychological dynamics that go on within the individual, often beyond conscious awaren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understand someone's personality, investigate the symbolic meanings of behavior and deep inner workings of the mi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experiences with parents shape person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MCPE07016_0000[1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5164200"/>
            <a:ext cx="1668600" cy="16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ud’s Theory of Pers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ity is made up of 3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per 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has its own governing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and interaction of these  creates our person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The_Psyche__Id__Ego__and_Superego_in_Freud_s_Study_of_Dreams_and_Human_Nature.asf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5334120" cy="36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914400" cy="94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914400" cy="95256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0" y="-141120"/>
            <a:ext cx="9143640" cy="7140600"/>
            <a:chOff x="0" y="-141120"/>
            <a:chExt cx="9143640" cy="7140600"/>
          </a:xfrm>
        </p:grpSpPr>
        <p:grpSp>
          <p:nvGrpSpPr>
            <p:cNvPr id="66" name="Group 5"/>
            <p:cNvGrpSpPr/>
            <p:nvPr/>
          </p:nvGrpSpPr>
          <p:grpSpPr>
            <a:xfrm>
              <a:off x="6840" y="-136440"/>
              <a:ext cx="9127800" cy="7130880"/>
              <a:chOff x="6840" y="-136440"/>
              <a:chExt cx="9127800" cy="7130880"/>
            </a:xfrm>
          </p:grpSpPr>
          <p:grpSp>
            <p:nvGrpSpPr>
              <p:cNvPr id="67" name="Group 6"/>
              <p:cNvGrpSpPr/>
              <p:nvPr/>
            </p:nvGrpSpPr>
            <p:grpSpPr>
              <a:xfrm>
                <a:off x="6840" y="-136440"/>
                <a:ext cx="3042360" cy="2346480"/>
                <a:chOff x="6840" y="-136440"/>
                <a:chExt cx="3042360" cy="2346480"/>
              </a:xfrm>
            </p:grpSpPr>
            <p:grpSp>
              <p:nvGrpSpPr>
                <p:cNvPr id="68" name="Group 7"/>
                <p:cNvGrpSpPr/>
                <p:nvPr/>
              </p:nvGrpSpPr>
              <p:grpSpPr>
                <a:xfrm>
                  <a:off x="110160" y="-136440"/>
                  <a:ext cx="2835720" cy="2162160"/>
                  <a:chOff x="110160" y="-136440"/>
                  <a:chExt cx="2835720" cy="2162160"/>
                </a:xfrm>
              </p:grpSpPr>
              <p:sp>
                <p:nvSpPr>
                  <p:cNvPr id="69" name="Rectangle 8"/>
                  <p:cNvSpPr/>
                  <p:nvPr/>
                </p:nvSpPr>
                <p:spPr>
                  <a:xfrm>
                    <a:off x="110160" y="-136440"/>
                    <a:ext cx="283572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Rectangle 9"/>
                  <p:cNvSpPr/>
                  <p:nvPr/>
                </p:nvSpPr>
                <p:spPr>
                  <a:xfrm>
                    <a:off x="110160" y="503280"/>
                    <a:ext cx="2835720" cy="152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 Black"/>
                      </a:rPr>
                      <a:t>         </a:t>
                    </a: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 Black"/>
                      </a:rPr>
                      <a:t>ID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" name="Rectangle 10"/>
                <p:cNvSpPr/>
                <p:nvPr/>
              </p:nvSpPr>
              <p:spPr>
                <a:xfrm>
                  <a:off x="6840" y="-136440"/>
                  <a:ext cx="3042360" cy="2346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1"/>
              <p:cNvGrpSpPr/>
              <p:nvPr/>
            </p:nvGrpSpPr>
            <p:grpSpPr>
              <a:xfrm>
                <a:off x="3049560" y="-136440"/>
                <a:ext cx="3042360" cy="2346480"/>
                <a:chOff x="3049560" y="-136440"/>
                <a:chExt cx="3042360" cy="2346480"/>
              </a:xfrm>
            </p:grpSpPr>
            <p:sp>
              <p:nvSpPr>
                <p:cNvPr id="73" name="Rectangle 12"/>
                <p:cNvSpPr/>
                <p:nvPr/>
              </p:nvSpPr>
              <p:spPr>
                <a:xfrm>
                  <a:off x="3152880" y="-136440"/>
                  <a:ext cx="2836080" cy="23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13"/>
                <p:cNvSpPr/>
                <p:nvPr/>
              </p:nvSpPr>
              <p:spPr>
                <a:xfrm>
                  <a:off x="3049560" y="-136440"/>
                  <a:ext cx="3042360" cy="2346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14"/>
              <p:cNvGrpSpPr/>
              <p:nvPr/>
            </p:nvGrpSpPr>
            <p:grpSpPr>
              <a:xfrm>
                <a:off x="6092280" y="-136440"/>
                <a:ext cx="3042360" cy="2346480"/>
                <a:chOff x="6092280" y="-136440"/>
                <a:chExt cx="3042360" cy="2346480"/>
              </a:xfrm>
            </p:grpSpPr>
            <p:sp>
              <p:nvSpPr>
                <p:cNvPr id="76" name="Rectangle 15"/>
                <p:cNvSpPr/>
                <p:nvPr/>
              </p:nvSpPr>
              <p:spPr>
                <a:xfrm>
                  <a:off x="6195600" y="-136440"/>
                  <a:ext cx="2836080" cy="23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16"/>
                <p:cNvSpPr/>
                <p:nvPr/>
              </p:nvSpPr>
              <p:spPr>
                <a:xfrm>
                  <a:off x="6092280" y="-136440"/>
                  <a:ext cx="3042360" cy="23464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17"/>
              <p:cNvGrpSpPr/>
              <p:nvPr/>
            </p:nvGrpSpPr>
            <p:grpSpPr>
              <a:xfrm>
                <a:off x="6840" y="2210040"/>
                <a:ext cx="3042360" cy="2346120"/>
                <a:chOff x="6840" y="2210040"/>
                <a:chExt cx="3042360" cy="2346120"/>
              </a:xfrm>
            </p:grpSpPr>
            <p:grpSp>
              <p:nvGrpSpPr>
                <p:cNvPr id="79" name="Group 18"/>
                <p:cNvGrpSpPr/>
                <p:nvPr/>
              </p:nvGrpSpPr>
              <p:grpSpPr>
                <a:xfrm>
                  <a:off x="110160" y="2210040"/>
                  <a:ext cx="2835720" cy="2162160"/>
                  <a:chOff x="110160" y="2210040"/>
                  <a:chExt cx="2835720" cy="2162160"/>
                </a:xfrm>
              </p:grpSpPr>
              <p:sp>
                <p:nvSpPr>
                  <p:cNvPr id="80" name="Rectangle 19"/>
                  <p:cNvSpPr/>
                  <p:nvPr/>
                </p:nvSpPr>
                <p:spPr>
                  <a:xfrm>
                    <a:off x="110160" y="2210040"/>
                    <a:ext cx="283572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Rectangle 20"/>
                  <p:cNvSpPr/>
                  <p:nvPr/>
                </p:nvSpPr>
                <p:spPr>
                  <a:xfrm>
                    <a:off x="110160" y="2849760"/>
                    <a:ext cx="2835720" cy="1522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 Black"/>
                        <a:ea typeface="Times New Roman"/>
                      </a:rPr>
                      <a:t>          </a:t>
                    </a: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 Black"/>
                        <a:ea typeface="Times New Roman"/>
                      </a:rPr>
                      <a:t>EGO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" name="Rectangle 21"/>
                <p:cNvSpPr/>
                <p:nvPr/>
              </p:nvSpPr>
              <p:spPr>
                <a:xfrm>
                  <a:off x="6840" y="2210040"/>
                  <a:ext cx="3042360" cy="2346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2"/>
              <p:cNvGrpSpPr/>
              <p:nvPr/>
            </p:nvGrpSpPr>
            <p:grpSpPr>
              <a:xfrm>
                <a:off x="3049560" y="2210040"/>
                <a:ext cx="3042360" cy="2346120"/>
                <a:chOff x="3049560" y="2210040"/>
                <a:chExt cx="3042360" cy="2346120"/>
              </a:xfrm>
            </p:grpSpPr>
            <p:sp>
              <p:nvSpPr>
                <p:cNvPr id="84" name="Rectangle 23"/>
                <p:cNvSpPr/>
                <p:nvPr/>
              </p:nvSpPr>
              <p:spPr>
                <a:xfrm>
                  <a:off x="3152880" y="2210040"/>
                  <a:ext cx="2836080" cy="234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24"/>
                <p:cNvSpPr/>
                <p:nvPr/>
              </p:nvSpPr>
              <p:spPr>
                <a:xfrm>
                  <a:off x="3049560" y="2210040"/>
                  <a:ext cx="3042360" cy="2346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Group 25"/>
              <p:cNvGrpSpPr/>
              <p:nvPr/>
            </p:nvGrpSpPr>
            <p:grpSpPr>
              <a:xfrm>
                <a:off x="6092280" y="2210040"/>
                <a:ext cx="3042360" cy="2346120"/>
                <a:chOff x="6092280" y="2210040"/>
                <a:chExt cx="3042360" cy="2346120"/>
              </a:xfrm>
            </p:grpSpPr>
            <p:sp>
              <p:nvSpPr>
                <p:cNvPr id="87" name="Rectangle 26"/>
                <p:cNvSpPr/>
                <p:nvPr/>
              </p:nvSpPr>
              <p:spPr>
                <a:xfrm>
                  <a:off x="6195600" y="2210040"/>
                  <a:ext cx="2836080" cy="234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27"/>
                <p:cNvSpPr/>
                <p:nvPr/>
              </p:nvSpPr>
              <p:spPr>
                <a:xfrm>
                  <a:off x="6092280" y="2210040"/>
                  <a:ext cx="3042360" cy="23461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28"/>
              <p:cNvGrpSpPr/>
              <p:nvPr/>
            </p:nvGrpSpPr>
            <p:grpSpPr>
              <a:xfrm>
                <a:off x="6840" y="4556160"/>
                <a:ext cx="3042360" cy="2438280"/>
                <a:chOff x="6840" y="4556160"/>
                <a:chExt cx="3042360" cy="2438280"/>
              </a:xfrm>
            </p:grpSpPr>
            <p:grpSp>
              <p:nvGrpSpPr>
                <p:cNvPr id="90" name="Group 29"/>
                <p:cNvGrpSpPr/>
                <p:nvPr/>
              </p:nvGrpSpPr>
              <p:grpSpPr>
                <a:xfrm>
                  <a:off x="110160" y="4556160"/>
                  <a:ext cx="2835720" cy="2375640"/>
                  <a:chOff x="110160" y="4556160"/>
                  <a:chExt cx="2835720" cy="2375640"/>
                </a:xfrm>
              </p:grpSpPr>
              <p:sp>
                <p:nvSpPr>
                  <p:cNvPr id="91" name="Rectangle 30"/>
                  <p:cNvSpPr/>
                  <p:nvPr/>
                </p:nvSpPr>
                <p:spPr>
                  <a:xfrm>
                    <a:off x="110160" y="4556160"/>
                    <a:ext cx="283572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Rectangle 31"/>
                  <p:cNvSpPr/>
                  <p:nvPr/>
                </p:nvSpPr>
                <p:spPr>
                  <a:xfrm>
                    <a:off x="110160" y="5195880"/>
                    <a:ext cx="2835720" cy="173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 Black"/>
                      </a:rPr>
                      <a:t>           </a:t>
                    </a: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 Black"/>
                      </a:rPr>
                      <a:t>SUPER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Black"/>
                        <a:ea typeface="Times New Roman"/>
                      </a:rPr>
                      <a:t>               </a:t>
                    </a: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Arial Black"/>
                        <a:ea typeface="Times New Roman"/>
                      </a:rPr>
                      <a:t>EGO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Rectangle 32"/>
                <p:cNvSpPr/>
                <p:nvPr/>
              </p:nvSpPr>
              <p:spPr>
                <a:xfrm>
                  <a:off x="6840" y="4556160"/>
                  <a:ext cx="3042360" cy="2438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33"/>
              <p:cNvGrpSpPr/>
              <p:nvPr/>
            </p:nvGrpSpPr>
            <p:grpSpPr>
              <a:xfrm>
                <a:off x="3049560" y="4556160"/>
                <a:ext cx="3042360" cy="2438280"/>
                <a:chOff x="3049560" y="4556160"/>
                <a:chExt cx="3042360" cy="2438280"/>
              </a:xfrm>
            </p:grpSpPr>
            <p:sp>
              <p:nvSpPr>
                <p:cNvPr id="95" name="Rectangle 34"/>
                <p:cNvSpPr/>
                <p:nvPr/>
              </p:nvSpPr>
              <p:spPr>
                <a:xfrm>
                  <a:off x="3152880" y="4556160"/>
                  <a:ext cx="2836080" cy="24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35"/>
                <p:cNvSpPr/>
                <p:nvPr/>
              </p:nvSpPr>
              <p:spPr>
                <a:xfrm>
                  <a:off x="3049560" y="4556160"/>
                  <a:ext cx="3042360" cy="2438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36"/>
              <p:cNvGrpSpPr/>
              <p:nvPr/>
            </p:nvGrpSpPr>
            <p:grpSpPr>
              <a:xfrm>
                <a:off x="6092280" y="4556160"/>
                <a:ext cx="3042360" cy="2438280"/>
                <a:chOff x="6092280" y="4556160"/>
                <a:chExt cx="3042360" cy="2438280"/>
              </a:xfrm>
            </p:grpSpPr>
            <p:sp>
              <p:nvSpPr>
                <p:cNvPr id="98" name="Rectangle 37"/>
                <p:cNvSpPr/>
                <p:nvPr/>
              </p:nvSpPr>
              <p:spPr>
                <a:xfrm>
                  <a:off x="6195600" y="4556160"/>
                  <a:ext cx="2836080" cy="243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38"/>
                <p:cNvSpPr/>
                <p:nvPr/>
              </p:nvSpPr>
              <p:spPr>
                <a:xfrm>
                  <a:off x="6092280" y="4556160"/>
                  <a:ext cx="3042360" cy="24382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Rectangle 39"/>
            <p:cNvSpPr/>
            <p:nvPr/>
          </p:nvSpPr>
          <p:spPr>
            <a:xfrm>
              <a:off x="0" y="-141120"/>
              <a:ext cx="9143640" cy="714060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icture 40" descr=""/>
          <p:cNvPicPr/>
          <p:nvPr/>
        </p:nvPicPr>
        <p:blipFill>
          <a:blip r:embed="rId3"/>
          <a:stretch/>
        </p:blipFill>
        <p:spPr>
          <a:xfrm>
            <a:off x="228600" y="5105520"/>
            <a:ext cx="1211400" cy="11379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1"/>
          <p:cNvSpPr/>
          <p:nvPr/>
        </p:nvSpPr>
        <p:spPr>
          <a:xfrm>
            <a:off x="3200400" y="0"/>
            <a:ext cx="2743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 at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ly unconscious- ego links Id to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3124080" y="2286000"/>
            <a:ext cx="28195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cious and unconsc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ive Branc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3"/>
          <p:cNvSpPr/>
          <p:nvPr/>
        </p:nvSpPr>
        <p:spPr>
          <a:xfrm>
            <a:off x="3124080" y="4572000"/>
            <a:ext cx="289584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we matur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xternal-par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ternal-self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cious and unconscio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4"/>
          <p:cNvSpPr/>
          <p:nvPr/>
        </p:nvSpPr>
        <p:spPr>
          <a:xfrm>
            <a:off x="6172200" y="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nts gra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s it thru reflexes or fantasy (“wish fulfillment” drea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5"/>
          <p:cNvSpPr/>
          <p:nvPr/>
        </p:nvSpPr>
        <p:spPr>
          <a:xfrm>
            <a:off x="6095880" y="2209680"/>
            <a:ext cx="3048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t balance and compromise b/t Id and Super 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s thinking and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6"/>
          <p:cNvSpPr/>
          <p:nvPr/>
        </p:nvSpPr>
        <p:spPr>
          <a:xfrm>
            <a:off x="6172200" y="4648320"/>
            <a:ext cx="2743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s as a con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es and guides the 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914400" cy="943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914400" cy="9525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5"/>
          <p:cNvGrpSpPr/>
          <p:nvPr/>
        </p:nvGrpSpPr>
        <p:grpSpPr>
          <a:xfrm>
            <a:off x="7920" y="-136440"/>
            <a:ext cx="9024480" cy="7130880"/>
            <a:chOff x="7920" y="-136440"/>
            <a:chExt cx="9024480" cy="7130880"/>
          </a:xfrm>
        </p:grpSpPr>
        <p:grpSp>
          <p:nvGrpSpPr>
            <p:cNvPr id="111" name="Group 6"/>
            <p:cNvGrpSpPr/>
            <p:nvPr/>
          </p:nvGrpSpPr>
          <p:grpSpPr>
            <a:xfrm>
              <a:off x="7920" y="-136440"/>
              <a:ext cx="3042000" cy="2346480"/>
              <a:chOff x="7920" y="-136440"/>
              <a:chExt cx="3042000" cy="2346480"/>
            </a:xfrm>
          </p:grpSpPr>
          <p:grpSp>
            <p:nvGrpSpPr>
              <p:cNvPr id="112" name="Group 7"/>
              <p:cNvGrpSpPr/>
              <p:nvPr/>
            </p:nvGrpSpPr>
            <p:grpSpPr>
              <a:xfrm>
                <a:off x="111240" y="-136440"/>
                <a:ext cx="2835360" cy="2162160"/>
                <a:chOff x="111240" y="-136440"/>
                <a:chExt cx="2835360" cy="2162160"/>
              </a:xfrm>
            </p:grpSpPr>
            <p:sp>
              <p:nvSpPr>
                <p:cNvPr id="113" name="Rectangle 8"/>
                <p:cNvSpPr/>
                <p:nvPr/>
              </p:nvSpPr>
              <p:spPr>
                <a:xfrm>
                  <a:off x="111240" y="-136440"/>
                  <a:ext cx="2835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9"/>
                <p:cNvSpPr/>
                <p:nvPr/>
              </p:nvSpPr>
              <p:spPr>
                <a:xfrm>
                  <a:off x="111240" y="503280"/>
                  <a:ext cx="2835360" cy="15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 Black"/>
                    </a:rPr>
                    <a:t>         </a:t>
                  </a: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 Black"/>
                    </a:rPr>
                    <a:t>ID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Rectangle 10"/>
              <p:cNvSpPr/>
              <p:nvPr/>
            </p:nvSpPr>
            <p:spPr>
              <a:xfrm>
                <a:off x="7920" y="-136440"/>
                <a:ext cx="3042000" cy="23464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Rectangle 12"/>
            <p:cNvSpPr/>
            <p:nvPr/>
          </p:nvSpPr>
          <p:spPr>
            <a:xfrm>
              <a:off x="3153600" y="-136440"/>
              <a:ext cx="2836080" cy="23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6196320" y="-136440"/>
              <a:ext cx="2836080" cy="23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17"/>
            <p:cNvGrpSpPr/>
            <p:nvPr/>
          </p:nvGrpSpPr>
          <p:grpSpPr>
            <a:xfrm>
              <a:off x="7920" y="2210040"/>
              <a:ext cx="3042000" cy="2346120"/>
              <a:chOff x="7920" y="2210040"/>
              <a:chExt cx="3042000" cy="2346120"/>
            </a:xfrm>
          </p:grpSpPr>
          <p:grpSp>
            <p:nvGrpSpPr>
              <p:cNvPr id="119" name="Group 18"/>
              <p:cNvGrpSpPr/>
              <p:nvPr/>
            </p:nvGrpSpPr>
            <p:grpSpPr>
              <a:xfrm>
                <a:off x="111240" y="2210040"/>
                <a:ext cx="2835360" cy="2162160"/>
                <a:chOff x="111240" y="2210040"/>
                <a:chExt cx="2835360" cy="2162160"/>
              </a:xfrm>
            </p:grpSpPr>
            <p:sp>
              <p:nvSpPr>
                <p:cNvPr id="120" name="Rectangle 19"/>
                <p:cNvSpPr/>
                <p:nvPr/>
              </p:nvSpPr>
              <p:spPr>
                <a:xfrm>
                  <a:off x="111240" y="2210040"/>
                  <a:ext cx="2835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20"/>
                <p:cNvSpPr/>
                <p:nvPr/>
              </p:nvSpPr>
              <p:spPr>
                <a:xfrm>
                  <a:off x="111240" y="2849760"/>
                  <a:ext cx="2835360" cy="15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 Black"/>
                      <a:ea typeface="Times New Roman"/>
                    </a:rPr>
                    <a:t>          </a:t>
                  </a: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 Black"/>
                      <a:ea typeface="Times New Roman"/>
                    </a:rPr>
                    <a:t>EGO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Rectangle 21"/>
              <p:cNvSpPr/>
              <p:nvPr/>
            </p:nvSpPr>
            <p:spPr>
              <a:xfrm>
                <a:off x="7920" y="2210040"/>
                <a:ext cx="3042000" cy="2346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Rectangle 23"/>
            <p:cNvSpPr/>
            <p:nvPr/>
          </p:nvSpPr>
          <p:spPr>
            <a:xfrm>
              <a:off x="3153600" y="2210040"/>
              <a:ext cx="2836080" cy="23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6"/>
            <p:cNvSpPr/>
            <p:nvPr/>
          </p:nvSpPr>
          <p:spPr>
            <a:xfrm>
              <a:off x="6196320" y="2210040"/>
              <a:ext cx="2836080" cy="23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8"/>
            <p:cNvGrpSpPr/>
            <p:nvPr/>
          </p:nvGrpSpPr>
          <p:grpSpPr>
            <a:xfrm>
              <a:off x="7920" y="4556160"/>
              <a:ext cx="3042000" cy="2438280"/>
              <a:chOff x="7920" y="4556160"/>
              <a:chExt cx="3042000" cy="2438280"/>
            </a:xfrm>
          </p:grpSpPr>
          <p:grpSp>
            <p:nvGrpSpPr>
              <p:cNvPr id="126" name="Group 29"/>
              <p:cNvGrpSpPr/>
              <p:nvPr/>
            </p:nvGrpSpPr>
            <p:grpSpPr>
              <a:xfrm>
                <a:off x="111240" y="4556160"/>
                <a:ext cx="2835360" cy="2375640"/>
                <a:chOff x="111240" y="4556160"/>
                <a:chExt cx="2835360" cy="2375640"/>
              </a:xfrm>
            </p:grpSpPr>
            <p:sp>
              <p:nvSpPr>
                <p:cNvPr id="127" name="Rectangle 30"/>
                <p:cNvSpPr/>
                <p:nvPr/>
              </p:nvSpPr>
              <p:spPr>
                <a:xfrm>
                  <a:off x="111240" y="4556160"/>
                  <a:ext cx="2835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31"/>
                <p:cNvSpPr/>
                <p:nvPr/>
              </p:nvSpPr>
              <p:spPr>
                <a:xfrm>
                  <a:off x="111240" y="5195880"/>
                  <a:ext cx="2835360" cy="173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 Black"/>
                    </a:rPr>
                    <a:t>           </a:t>
                  </a: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 Black"/>
                    </a:rPr>
                    <a:t>SUPER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Black"/>
                      <a:ea typeface="Times New Roman"/>
                    </a:rPr>
                    <a:t>               </a:t>
                  </a:r>
                  <a:r>
                    <a:rPr b="1" lang="en-US" sz="2600" spc="-1" strike="noStrike">
                      <a:solidFill>
                        <a:srgbClr val="000000"/>
                      </a:solidFill>
                      <a:latin typeface="Arial Black"/>
                      <a:ea typeface="Times New Roman"/>
                    </a:rPr>
                    <a:t>EGO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Rectangle 32"/>
              <p:cNvSpPr/>
              <p:nvPr/>
            </p:nvSpPr>
            <p:spPr>
              <a:xfrm>
                <a:off x="7920" y="4556160"/>
                <a:ext cx="3042000" cy="24382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Rectangle 34"/>
            <p:cNvSpPr/>
            <p:nvPr/>
          </p:nvSpPr>
          <p:spPr>
            <a:xfrm>
              <a:off x="3153600" y="4556160"/>
              <a:ext cx="28360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7"/>
            <p:cNvSpPr/>
            <p:nvPr/>
          </p:nvSpPr>
          <p:spPr>
            <a:xfrm>
              <a:off x="6196320" y="4556160"/>
              <a:ext cx="28360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39"/>
          <p:cNvSpPr/>
          <p:nvPr/>
        </p:nvSpPr>
        <p:spPr>
          <a:xfrm>
            <a:off x="0" y="-141120"/>
            <a:ext cx="9144000" cy="7140240"/>
          </a:xfrm>
          <a:prstGeom prst="rect">
            <a:avLst/>
          </a:prstGeom>
          <a:noFill/>
          <a:ln cap="sq" w="111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0" descr=""/>
          <p:cNvPicPr/>
          <p:nvPr/>
        </p:nvPicPr>
        <p:blipFill>
          <a:blip r:embed="rId3"/>
          <a:stretch/>
        </p:blipFill>
        <p:spPr>
          <a:xfrm>
            <a:off x="228600" y="5105520"/>
            <a:ext cx="1211400" cy="1137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1"/>
          <p:cNvSpPr/>
          <p:nvPr/>
        </p:nvSpPr>
        <p:spPr>
          <a:xfrm>
            <a:off x="3200400" y="0"/>
            <a:ext cx="5410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ke Example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ant cake!!! Nom nom nom nom nom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3124080" y="22860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want cake, but if I eat it, I should do so in moderation and maybe go for a run later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3"/>
          <p:cNvSpPr/>
          <p:nvPr/>
        </p:nvSpPr>
        <p:spPr>
          <a:xfrm>
            <a:off x="3124080" y="53341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ke has high sugar and fat content. If I’m hungry, I should eat an apple inste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leasure Princ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ry to obtain immedia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leasure and avoid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g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ality Princ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Use reasoning to delay satisfying the Id until it is safe and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per Eg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rality Princi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trives for perfection;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ewards and punishes the eg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ppropriately for decisions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MCj04300450000[1]"/>
          <p:cNvPicPr/>
          <p:nvPr/>
        </p:nvPicPr>
        <p:blipFill>
          <a:blip r:embed="rId1"/>
          <a:stretch/>
        </p:blipFill>
        <p:spPr>
          <a:xfrm>
            <a:off x="152280" y="762120"/>
            <a:ext cx="841320" cy="99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MCj03234140000[1]"/>
          <p:cNvPicPr/>
          <p:nvPr/>
        </p:nvPicPr>
        <p:blipFill>
          <a:blip r:embed="rId2"/>
          <a:stretch/>
        </p:blipFill>
        <p:spPr>
          <a:xfrm>
            <a:off x="7162920" y="3276720"/>
            <a:ext cx="1147680" cy="121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MPj04332330000[1]"/>
          <p:cNvPicPr/>
          <p:nvPr/>
        </p:nvPicPr>
        <p:blipFill>
          <a:blip r:embed="rId3"/>
          <a:stretch/>
        </p:blipFill>
        <p:spPr>
          <a:xfrm>
            <a:off x="152280" y="495288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ud’s Personality Icebe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380880" y="1434960"/>
          <a:ext cx="8305920" cy="49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34960"/>
                    <a:ext cx="830592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5T13:00:36Z</dcterms:created>
  <dc:creator>Default</dc:creator>
  <dc:description/>
  <dc:language>en-US</dc:language>
  <cp:lastModifiedBy>John Hampton</cp:lastModifiedBy>
  <dcterms:modified xsi:type="dcterms:W3CDTF">2012-03-30T13:07:51Z</dcterms:modified>
  <cp:revision>14</cp:revision>
  <dc:subject/>
  <dc:title>Slide 1</dc:title>
</cp:coreProperties>
</file>